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45C-366A-4A05-BF56-9BCCC563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918-7482-422E-AC6C-5FEED7EC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962-31A2-4E2C-BD65-AF9C12E7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D865-C700-4547-B481-012DB020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A465-F347-49E9-BDAC-185EAF82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9DF6-11D2-45D1-8183-E1695B1D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70F7-F3A6-4AD1-8958-0D35BE41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9364-AD4E-4C92-9610-E6BC8B20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D413-D302-407B-90A9-0C2C9B00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47E3-C29B-47B5-816E-724029A2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4342-626A-4F3A-A91D-7C4B9911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F4A4-AF07-422A-BA32-DB652252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AF70-D862-49E4-853B-902555DC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9BDA-057C-4B35-844E-E38D3DC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A39E-5485-45FA-8C08-B762EAFC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865E-8835-479B-9CB9-E6173C0A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9380-66B3-4301-BD85-4EC846E25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57F7-2A88-4289-A2E1-009BC662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1798-A5FD-4F14-8F85-8BAC7284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81E6-E994-4BDD-AE55-6E616A65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EB20-4EDD-4D98-BC7A-F1A9940D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A521F-0414-4CE9-AFC5-9D279C85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336-8BCF-4090-A1DF-B2133FE3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92E7-FD7C-48B4-86B5-D270B03D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AEF4A-02F6-42C1-8DC0-312021FB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4D5F0-AA92-48E4-8F6C-0E02CC4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AC77-A028-45FD-A8F7-D5DD8952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3A47-2247-4BD0-BA07-687715F7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B77B-B142-4E8C-892B-08951F09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8E3B-E06F-4FA6-8353-CB52446A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5083-8459-458C-B432-7C484E00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8E598-81EE-4BB0-AF5B-0DAD10F9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3A700-B7B4-450B-906B-2F8DE5A3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0E6-7B50-4705-88AF-1AC50FFD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23878-B053-4108-821D-A1C2D950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1E41B-FBE6-422D-9B31-D2D32297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94BA-0383-4E9A-8B4C-7EA70201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E165-E8E5-4A05-A5DB-2C97DA20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083E-3640-4B4B-AACD-3AA2171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F51FE-DE94-4556-A864-F3737C29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F7734-382F-46FF-AAFA-C0E9AFA4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DBAC2-25BE-4D07-962F-FC5A075C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5162-18F4-4386-AE74-B2EB68E9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9B480-5A6A-4124-A69A-9B47A675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659-B72A-4046-AF97-64EB8A78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2478-BFBE-4FC4-9B70-04049801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A2DB0-CE3B-40E9-AECA-C3EBFC1D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3FDF1-DC9F-457E-A922-CAA7DDC9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086ED-FD95-4A93-8C3F-8EFBC24D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C985-9484-410F-8726-1ADCEC52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27BFE-752D-4CB1-829B-BBDAE03D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D83BA-F474-4D7A-92CB-693AA462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9464-99AF-426B-8945-A3697587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52A36-17A2-40B4-9120-E29EA067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95206-C494-46E3-A23C-79914A84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093-3F00-4A04-B500-C142DDF5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7C72-4373-483F-B24C-B0182DD3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55291-A449-49F9-AC4A-49519A5E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EE88E-C927-49A5-8004-17A26E04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0DF8-32C3-4B02-8149-39C37429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970FD-0E39-4B84-BA35-C50E445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62B16-001F-45A8-9E7D-8D97E280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45CC4-9993-4D8E-AEA8-7AF11A1D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8AB0-D103-41A3-B223-7C09A73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AB7B-F18B-427B-8782-F5B3E0A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1A818-D4C8-4B2F-A49E-6BA28413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E99-C025-456B-95E5-C21ED727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19043-74FE-4B40-9E00-9A92B5E3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D58D-2B8B-4040-8516-E009C161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18534-C4CF-4ABF-955D-E4ECF922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2C46D-5B27-4E98-A7C2-AD0DD053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82BD7-1622-47E0-A36B-F2045BDE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B1A81-4873-433D-B45A-316D6332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C8144-72B5-4633-B848-383CB26F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88937-9429-4091-BE34-3051C9E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D3BE5-6369-47B4-BB3C-104EE4B4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74EBB-BD7D-48CA-94BC-C0C043DF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BE8-74A1-42B4-83EF-56C264D4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3A1E-1224-47B7-A743-883F776A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1D833-18C4-48D0-9A2E-A7733D53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9CC2F-AE60-4888-AAD1-34ECC295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917E9-4F3D-4FDB-A445-D8175578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CEE70-122A-4FD2-8FF9-378E9DE3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0E5E8-ADEF-4A4C-BCCD-00E22623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302E0-03B4-43FE-9CE9-B1CBE351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39F06-D957-4B97-8644-A849B691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94F5A-249A-44D5-B123-7196257C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CF538-13C5-40A8-8D81-4AFED789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2E2-9306-4CF0-9F86-F8D6F309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801D7-8BA6-4D9D-84C9-24D0A329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4C26B-E64B-4339-9598-49D4839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6118E-C91C-477D-A222-35292D72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4761B-C7AE-46B0-902E-F192B7D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4577-6509-4229-8BB9-F2862D7A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D08E3-AF16-40A6-88F5-FA812FFD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3AA96-C08E-4F80-8FCE-6EDC9D4F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2B54-57F2-412D-B200-34D1FFB55AB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B430-D7C0-47DF-89FF-46286E48F0E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8F7D-6D9B-4D9C-9B5B-563B1D72972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894B-8732-4A76-8214-928FEFB12AF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9CE6-403E-495E-B5D4-F3FC8A79D5E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6FA5-4C42-4A92-8595-6B5E828B1BE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709C-1C85-4484-B288-1B522B6BE76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3B93-9569-4F16-A545-9EE83085D98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ich students di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ot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ad at least 25 books during the summ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3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Kathy read an equal number of books in each of the 3 summer months, how many books did she read each month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Jacob wanted to read as many books as William, how many more books would he have to rea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is the total number of books that the 4 students read during the summ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9907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order from greatest number of books read to least number of books read, how should the teacher list student names on a char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20:42:07Z</dcterms:created>
  <dc:creator>127partidak</dc:creator>
  <dc:description/>
  <dc:language>en-US</dc:language>
  <cp:lastModifiedBy>127partidak</cp:lastModifiedBy>
  <dcterms:modified xsi:type="dcterms:W3CDTF">2011-09-02T20:47:14Z</dcterms:modified>
  <cp:revision>1</cp:revision>
  <dc:subject/>
  <dc:title>Monday</dc:title>
</cp:coreProperties>
</file>